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41C-1FE1-494C-9AD4-9629876C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629-733D-4FB4-9507-65E6CF9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B86-AAC7-44EB-92DA-C2D722DA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A25-4E58-402B-A0C0-16C414B9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0BF-1FE4-4C9B-8972-6BED453A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F44-34DD-4805-98D8-7005B03A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BF5-1D4E-45A5-B365-02320302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087-78DA-47A5-9C72-EEE91330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F61-9956-4D74-A14B-003AD907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E70-B02B-40C5-9A9B-F8207117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2CB-F444-461E-8CB3-6166AD9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6FC-55E4-47CB-9784-1E1EEFA2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1180-66BB-48D2-AFB6-0B6D2B26B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texas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states/texas/" TargetMode="External"/><Relationship Id="rId4" Type="http://schemas.openxmlformats.org/officeDocument/2006/relationships/hyperlink" Target="http://www.enchantedlearning.com/usa/states/texas/" TargetMode="External"/><Relationship Id="rId5" Type="http://schemas.openxmlformats.org/officeDocument/2006/relationships/hyperlink" Target="http://www.enchantedlearning.com/usa/states/texas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495288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jandro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80880"/>
            <a:ext cx="8229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xas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4572000"/>
            <a:ext cx="3048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xas state song,4/10/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Au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25,145,5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Friend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Lone sta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Bluebon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Mocking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Texas, our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From a native word meaning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union: Dec.29,1845 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ity: Hou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4010040" cy="388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of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343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xas 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 22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nchantedlearning.com/usa/states/texa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ate Flag of Texas"/>
          <p:cNvPicPr/>
          <p:nvPr/>
        </p:nvPicPr>
        <p:blipFill>
          <a:blip r:embed="rId6"/>
          <a:stretch/>
        </p:blipFill>
        <p:spPr>
          <a:xfrm>
            <a:off x="4800600" y="431640"/>
            <a:ext cx="4191120" cy="279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 of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276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.ou.edu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xas 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 22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657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581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3733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aw.ou.edu/hist/flags/stflagmtw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icture of the Blue Bonnet, the official state flower of Texas."/>
          <p:cNvPicPr/>
          <p:nvPr/>
        </p:nvPicPr>
        <p:blipFill>
          <a:blip r:embed="rId1"/>
          <a:stretch/>
        </p:blipFill>
        <p:spPr>
          <a:xfrm>
            <a:off x="228600" y="60948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Flower: Bluebon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895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50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bon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April 4,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080" y="35053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heus50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659040" cy="419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95680" y="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bird: Mocking 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572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9Z</dcterms:created>
  <dc:creator>install</dc:creator>
  <dc:description/>
  <dc:language>en-US</dc:language>
  <cp:lastModifiedBy>install</cp:lastModifiedBy>
  <dcterms:modified xsi:type="dcterms:W3CDTF">2012-04-16T13:14:59Z</dcterms:modified>
  <cp:revision>10</cp:revision>
  <dc:subject/>
  <dc:title>Slide 1</dc:title>
</cp:coreProperties>
</file>